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20.wmf" ContentType="image/x-wmf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C77-F600-4E7F-8854-8A2963E2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191-2AE9-42C5-A505-85117615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8CAA-611D-43D0-9872-5D9EF339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064-8524-4EEB-8935-1C31C9F5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BA9A-1BD2-432F-8BF5-1D909DD8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4164-0970-4393-BB67-2D59AB78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043E-F415-4ADB-8173-1A4EDD5C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AB0D-5734-499B-8FF4-0627645F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3951-90DF-4614-BFBB-6C084C22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FDBD-E04B-450D-8AA8-944DBCB6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1C21-0120-4DEE-8526-E153188C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F99-188A-4C98-916B-47234CFA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FDE5-5210-40B9-96F9-83CED17C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1BFA-BEA9-409A-952D-2EE24C23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05DE-C072-4AF1-9C91-04F85819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AEEF-94C3-4524-8B04-A8399271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660F-AA65-4E41-8AF6-67A90AA6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CCA6-E0D2-4162-A534-E588F21C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671-9DB4-4000-B53E-4CE74AB6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2205-4896-4A23-A086-59C665FE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CDE-C699-4CD4-9D7F-61737F3D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EB1-F705-4916-A119-95EB7310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C84-28BB-4E8A-A66C-1298AB93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9CF0-593E-4E7B-9D5D-2480A0D3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B253-88F4-4CB3-923D-FE7CAB5ACD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6CBC-F6AC-49C6-81E6-21AEEB8F9A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Cold War Division of German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I136 History of Germ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French Occup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43280" y="1341360"/>
            <a:ext cx="58435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pes for dismemberment of Germany (Rhinelan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ational control of Ruh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pose centralised instit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n-signatories to Potsdam (no refugees allowed into French Zo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nitive reparations from German industry and fore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join Anglo-American Bizone in 19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USA-E-Supreme-p149"/>
          <p:cNvPicPr/>
          <p:nvPr/>
        </p:nvPicPr>
        <p:blipFill>
          <a:blip r:embed="rId7"/>
          <a:stretch/>
        </p:blipFill>
        <p:spPr>
          <a:xfrm>
            <a:off x="250920" y="1197000"/>
            <a:ext cx="2396880" cy="33843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324000" y="49417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ral Koenig, French comma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ritish Occup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55548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ril 1946 British alarm at communist-SPD merger in Soviet Zone (bid for all-zone superparty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d-1946 British sterling crisis; occupation becoming 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vite other occupiers to merge zones (only US accept &gt; Bizonia, Jan. 194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itain now seen as proactive &amp; keen to encourage firmer line from Americans (Deighton,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e Impossible Pea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-revisionist synthesis stresses regional 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bevin_e"/>
          <p:cNvPicPr/>
          <p:nvPr/>
        </p:nvPicPr>
        <p:blipFill>
          <a:blip r:embed="rId6"/>
          <a:stretch/>
        </p:blipFill>
        <p:spPr>
          <a:xfrm>
            <a:off x="324000" y="981000"/>
            <a:ext cx="2246040" cy="28083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324000" y="37162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rnest Bevin, British foreign secret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merican Occup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CS 1067: no fraternisation; population to be kept at subsistenc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y 1946: US halt reparations deliveries to Soviet 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rnes’ speech (Sept. 1946): America pledges to stay in Germany for long ha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47 governor Clay blocks moves to nationalisation of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rolyn Eisenberg,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Drawing the Lin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, for a critical view of the Ameri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arshall Aid, June 1947-195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st Germany as ‘locomotive’ to economic recovery of wester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nationalisation of economy to satisfy French security wor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newed West German infrastructure of Ruhr m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as it more psychological than real aid? (Werner Abelshauser v. Christoph Buchhei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f dismantling policy in eastern Ger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any in 1945 –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die Stunde Nul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zero hou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ccupation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First Berlin Cr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econd Berlin Cr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0" y="3429000"/>
            <a:ext cx="719280" cy="287280"/>
          </a:xfrm>
          <a:prstGeom prst="rightArrow">
            <a:avLst>
              <a:gd name="adj1" fmla="val 50000"/>
              <a:gd name="adj2" fmla="val 6259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berlin 1948"/>
          <p:cNvPicPr/>
          <p:nvPr/>
        </p:nvPicPr>
        <p:blipFill>
          <a:blip r:embed="rId1"/>
          <a:stretch/>
        </p:blipFill>
        <p:spPr>
          <a:xfrm>
            <a:off x="755640" y="981000"/>
            <a:ext cx="7416720" cy="558504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5"/>
          <p:cNvSpPr/>
          <p:nvPr/>
        </p:nvSpPr>
        <p:spPr>
          <a:xfrm>
            <a:off x="900000" y="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Berlin: the quadripartite c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erlin: co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9152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iberated by USSR in April 1945 at cost of 100,000 casualties; western sectors occupied July 19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mal access only recognised via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sy access to West via open border, including U-Bahn or flown out of Tempelh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erlin Airlif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3280" y="907920"/>
            <a:ext cx="45007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viet concerns at western preparations for separate West German state (London talks from Jan. 194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urrency reform: June western Allies introduce deutschmark into western zones and West Berl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viets retaliate with closure of access to West Berl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eneral Clay organises airlift with political support from Mayor Reuter; despite difficulties in autumn 1948, tonnages rise in No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paganda debacle for E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stern Allies move from being ‘victor powers’ to ‘protector powers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5" descr="BerlinAirlift4"/>
          <p:cNvPicPr/>
          <p:nvPr/>
        </p:nvPicPr>
        <p:blipFill>
          <a:blip r:embed="rId7"/>
          <a:stretch/>
        </p:blipFill>
        <p:spPr>
          <a:xfrm>
            <a:off x="179280" y="836640"/>
            <a:ext cx="4464000" cy="40701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250920" y="494172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merican transport aircraft (‘raisin bomber’) lands at Tempelhof; note the children waiting for possible sweets thrown overbo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108377"/>
          <p:cNvPicPr/>
          <p:nvPr/>
        </p:nvPicPr>
        <p:blipFill>
          <a:blip r:embed="rId1"/>
          <a:stretch/>
        </p:blipFill>
        <p:spPr>
          <a:xfrm>
            <a:off x="2124000" y="260280"/>
            <a:ext cx="4997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erlin: the Divided 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211280" y="764640"/>
            <a:ext cx="4475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uring blockade two city gover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-Bahn (West) &amp; S-Bahn (Ea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urrency spec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hopwindow Berlin’: Ku-Damm as showcase of western standard of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spionage centre (CIA Berlin tunnel, human intellige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oadcasting: RIAS American ra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stocking"/>
          <p:cNvPicPr/>
          <p:nvPr/>
        </p:nvPicPr>
        <p:blipFill>
          <a:blip r:embed="rId7"/>
          <a:stretch/>
        </p:blipFill>
        <p:spPr>
          <a:xfrm>
            <a:off x="324000" y="836640"/>
            <a:ext cx="1798560" cy="2665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b_071s"/>
          <p:cNvPicPr/>
          <p:nvPr/>
        </p:nvPicPr>
        <p:blipFill>
          <a:blip r:embed="rId8"/>
          <a:stretch/>
        </p:blipFill>
        <p:spPr>
          <a:xfrm>
            <a:off x="2195640" y="836640"/>
            <a:ext cx="1876320" cy="2663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>
            <a:off x="324000" y="3789360"/>
            <a:ext cx="187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ster showing smuggling of currency between se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268360" y="3716280"/>
            <a:ext cx="18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ware RIAS poison’: communist anti-American poster warning of US broadca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any in 1945 –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die Stunde Nul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zero hou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ccupation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First Berlin Cr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econd Berlin Cr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any in 1945 –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die Stunde Nul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zero hou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ccupation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First Berlin Cr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econd Berlin Cr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0" y="4005360"/>
            <a:ext cx="719280" cy="287280"/>
          </a:xfrm>
          <a:prstGeom prst="rightArrow">
            <a:avLst>
              <a:gd name="adj1" fmla="val 50000"/>
              <a:gd name="adj2" fmla="val 6259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fugees via Berlin &amp; Inner-German bor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Object 3"/>
          <p:cNvGraphicFramePr/>
          <p:nvPr/>
        </p:nvGraphicFramePr>
        <p:xfrm>
          <a:off x="395280" y="1341360"/>
          <a:ext cx="8569440" cy="532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56944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erlin Crisis, 1958-6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DR’s desire for recognition by 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SR’s hopes for peace treaties &amp; removal of atomic weaponry from F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hrushchev ultimatum for West to leave West Berlin within 6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stern intransigence &amp; threat of nuclear weapons to preserve West Berlin; but non-intervention in East Ber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conomic race to overtake West German economy falters in 19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all cheap alternative to subsidies by USS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nclusion: Division of Germa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ditional interpretation: Soviet Union is respon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visionist interpretation: USA are mainly respon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-revisionist interpretation: both sides are respon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Photo: Befreiung Konzentrationslager Dachau, 1945"/>
          <p:cNvPicPr/>
          <p:nvPr/>
        </p:nvPicPr>
        <p:blipFill>
          <a:blip r:embed="rId1"/>
          <a:stretch/>
        </p:blipFill>
        <p:spPr>
          <a:xfrm>
            <a:off x="4971960" y="0"/>
            <a:ext cx="4172040" cy="5877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4716360" y="6453360"/>
            <a:ext cx="44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Liberation of the Concentration Camp Dacha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8" descr="Dokumentation: Flucht und Vertreibung, 1945-1949"/>
          <p:cNvPicPr/>
          <p:nvPr/>
        </p:nvPicPr>
        <p:blipFill>
          <a:blip r:embed="rId2"/>
          <a:stretch/>
        </p:blipFill>
        <p:spPr>
          <a:xfrm>
            <a:off x="0" y="3395520"/>
            <a:ext cx="4211640" cy="3191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destruction1945"/>
          <p:cNvPicPr/>
          <p:nvPr/>
        </p:nvPicPr>
        <p:blipFill>
          <a:blip r:embed="rId3"/>
          <a:stretch/>
        </p:blipFill>
        <p:spPr>
          <a:xfrm>
            <a:off x="1332000" y="0"/>
            <a:ext cx="2411280" cy="3068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Video: Zerstörte Städte"/>
          <p:cNvPicPr/>
          <p:nvPr/>
        </p:nvPicPr>
        <p:blipFill>
          <a:blip r:embed="rId4"/>
          <a:stretch/>
        </p:blipFill>
        <p:spPr>
          <a:xfrm>
            <a:off x="4067280" y="1916280"/>
            <a:ext cx="28548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 badly managed disaster area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6" descr="index"/>
          <p:cNvPicPr/>
          <p:nvPr/>
        </p:nvPicPr>
        <p:blipFill>
          <a:blip r:embed="rId1"/>
          <a:stretch/>
        </p:blipFill>
        <p:spPr>
          <a:xfrm>
            <a:off x="324000" y="765000"/>
            <a:ext cx="4032000" cy="30528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250920" y="3789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ugees arriving in Berlin, 19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788000" y="3789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lack market raid in Berlin, 19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13" descr="Photo: Schwarzmarktrazzia am Brandenburger Tor"/>
          <p:cNvPicPr/>
          <p:nvPr/>
        </p:nvPicPr>
        <p:blipFill>
          <a:blip r:embed="rId2"/>
          <a:stretch/>
        </p:blipFill>
        <p:spPr>
          <a:xfrm>
            <a:off x="4500720" y="765000"/>
            <a:ext cx="3887640" cy="3030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Dokumentation: Leben in den Trümmern, 1945-1947"/>
          <p:cNvPicPr/>
          <p:nvPr/>
        </p:nvPicPr>
        <p:blipFill>
          <a:blip r:embed="rId3"/>
          <a:stretch/>
        </p:blipFill>
        <p:spPr>
          <a:xfrm>
            <a:off x="3203640" y="4317840"/>
            <a:ext cx="30988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Formal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67564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heran Feb. 1943: Germany will be divided and occup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ndon Sept. 1944: three zones envisaged (joined by French in 194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sdam July 1945: Germany to be single economic unit, but administered by zonal commanders meeting in Allied Control Counc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ficially, temporary situation pending peace treaty, but de facto conso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947 Economic Council appears in western zones as proto-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ne 1948 separate currencies introdu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1949 Federal Republic of (West) Germany announced; Oct. 1949 German Democratic Republic (East) foll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1955 FRG joins NATO; GDR joins Warsaw 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gust 1961 Berlin Wall built cementing di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map.jpg (54130 Byte)"/>
          <p:cNvPicPr/>
          <p:nvPr/>
        </p:nvPicPr>
        <p:blipFill>
          <a:blip r:embed="rId1"/>
          <a:stretch/>
        </p:blipFill>
        <p:spPr>
          <a:xfrm>
            <a:off x="395280" y="260280"/>
            <a:ext cx="806436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naz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mocrati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militari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entrali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arteli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Dismantl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oviet Occup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adualist approach with creeping Sovietisation (no one-party copy of USS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ck of planning, but ‘smash and grab’ (Beria) versus ‘reconstruction’ (Tyulpanov) f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ss rapes alienate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tionalisation of industry popular (77% support), but dismantling of 30% of factories unpopular (approx. 3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nd reform (popular among farmers, but set unilateral precedent, upsetting western partn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fugees: USSR mainly blamed for inhumane treatment of refugees, ca. 1.5 million d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rman Naimark,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The Russians in Germ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visionist views of Russ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lin’s perceived desire for a deal on Germany (united but neut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ssage to KPD leaders in June 1945 that Germany would remain un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kes on separatist pressures from East German leaders (June 194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tional unity offers (March 1952 Stalin Notes); was this to try to scupper FRG integration into military blo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lf Steininger, Wilfried Loth,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Stalin’s Unwanted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1:59:52Z</dcterms:created>
  <dc:creator>hyrbw</dc:creator>
  <dc:description/>
  <dc:language>en-US</dc:language>
  <cp:lastModifiedBy>Grace</cp:lastModifiedBy>
  <dcterms:modified xsi:type="dcterms:W3CDTF">2017-02-20T21:50:44Z</dcterms:modified>
  <cp:revision>11</cp:revision>
  <dc:subject/>
  <dc:title>Cold War Division of Germany</dc:title>
</cp:coreProperties>
</file>